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1F3-AF2B-4CF6-A82D-4DD2E00D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2C9-7B53-408A-994C-4D6B1507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B18-9336-476A-8EDF-CB6A6DCD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F2B-9185-4658-A4CA-CAE9458C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1E4-FAD0-4AB9-862B-F01B5F9C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328-1C30-4930-A198-DA97E539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7DC-3786-459A-A2C0-4F29661D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672-15CD-4517-B702-C1B54F53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80F-0E4E-4C95-94E4-C2591336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33E-F3FA-49C1-B7A9-60E3CBC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480-DF4E-456B-93C2-FD65D421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270-0092-4B38-BA9F-4B6D627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BF2A-3EB5-4345-87AF-0F47238B4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of your plane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(should/should not) take a trip to _____________ and we are going to tell you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from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planet) is _______ miles from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take _____________ (how long) to travel to (your plan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lanet is made up of what g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/is not possible to surv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lanet is terrestrial or jov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lanet is how far from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on my plane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ons are (how long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 is (how long?) on my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storms on your pla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ravity on your planet compared to ea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someone be able to survive with this gravity?  If so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traveled to your planet, what could they do to have fun? (rings, moons, terrain?  Mountains, crater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should someone know about your planet that makes it uni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2:29:42Z</dcterms:created>
  <dc:creator>Jeff Lewis</dc:creator>
  <dc:description/>
  <dc:language>en-US</dc:language>
  <cp:lastModifiedBy>Jeff Lewis</cp:lastModifiedBy>
  <dcterms:modified xsi:type="dcterms:W3CDTF">2008-09-26T15:00:50Z</dcterms:modified>
  <cp:revision>3</cp:revision>
  <dc:subject/>
  <dc:title>Name of your planet here</dc:title>
</cp:coreProperties>
</file>